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842-92BE-4115-857A-835CA392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261-D44D-4C9E-A87E-E26EF3E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234A7-6FD2-4924-9A20-3927AE89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53749-FEF1-461B-BA05-DC17F240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FA86A-E3A6-440C-848B-D832D62C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3CA57-01A3-4548-9711-E7A56163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DEF29-BADD-467E-88D8-8EDED128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BB33D-B427-49C9-A77C-405FBEDA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54D14-98CB-4E81-88D3-8F5C9F9F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3BA69-6013-479E-BD96-82D0EDE3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F2444-E535-4BB0-AB51-67650798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ED606-D308-43FB-A698-0994B892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484-4CE3-40FB-BD9C-BAC4E0F8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F2D06-FF18-45D4-A3C4-AAB565A3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7F0DC-579A-4245-AB36-D23F188A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E974F-7381-407C-B7E5-DD12DF0B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9D86F-17C0-4BF4-935B-ED7695EC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E4DFD-DD4B-4BA5-AA0D-640A6531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080F8-7B2B-4753-B9B5-7396A5B0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54B5A-D5BF-4D8C-92F9-A2D0994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BBD6F-0824-45CC-8F8F-899C137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77775-6756-4AC3-BCE2-93AD84E0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1FFFF-D8A6-4524-8E8E-DAA3FD14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EB5-5D82-4FE0-AAC5-F0C22B06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1CAA9-C7EF-443F-A267-77BF665C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7A48E-5F76-4926-BF65-A0E35077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EE0D0-1356-483A-A6AD-7F1ACC6F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4D2F7-769D-4A4E-A797-D0381121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890B6-F538-462B-A347-2006613A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F14BB-D57A-4400-A930-BF33E519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0DA62-1EA3-4A02-9AFD-A919404A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BE7E5-BC7F-4A51-B0F5-CAD1E15D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97D41-216D-49FC-AB0A-0A308057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3A01B-2C74-47B2-9BA5-F146C608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41B9-A02B-4CE7-9046-8C8A4C78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29FC0-B655-4CFC-B5D9-2167778C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34FE4-713A-417F-AA0D-54D29AD3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618F9-BD67-4EB7-9B76-02EC5F80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B6E1C-ED70-415B-A542-555DE338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2EAE8-C652-4AA0-AF98-B87D3424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D0CA1-8D68-414B-A793-98E6F04F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B83DB-F473-416D-93B0-2A02DF42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9A92A-4197-49E9-A512-EB41AF00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032B8-9F2F-4E7B-8EC9-495E6366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5322F-53EE-47F0-9326-BC9A2EDC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6479-C9BB-43E4-BCC3-B3DE8260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12026-8EC3-4E83-8EC5-2380CEBD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71621-56AC-490F-89C0-E7403BCE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8A083-4EAC-4AD2-8BCA-07D80601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C82C5-4686-4906-9CEB-7BB94BD2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7C19A-4152-4F47-8A77-D0350D3A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AA00E-CD10-4542-8A54-AC6A2E66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32408-ECC7-4C93-AEA6-66DE3842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1C235-3D96-4FFF-A830-D5478DFF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BE8020-128B-4C13-A9AD-82537F57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9434E-0E1A-4997-B004-B0EC4DF3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10C2-6979-4717-8216-333EAC60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1DFFA-C1DA-4EC1-B11C-93FFDA32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CD381-59FB-483C-AC0C-595B812E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A7B8F-DF2A-4585-B9F1-BB1EA48A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7DE16-6306-499C-BD0E-E3E23D56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8CCE0-D462-4CC4-9A8E-92D375D6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C4CCB-A577-4241-98B1-66798967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5D9C7-DEEF-450D-A067-2015D76E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279F8-5676-4816-9EED-28C03959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22997-DFE1-49B9-88D3-2936051B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67721-4805-4F1B-84EB-D8E4FB1C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B866-87C6-437A-B76D-A7F49614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D9FB4-1543-4241-A169-988907A1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C23BB-2397-441E-A84E-1CAB0E40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53DD4-7B41-4C6F-9422-8434C284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37709-E797-4F9F-BBF6-B72754A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DBDC6-FA74-46B6-930A-91069D00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514D3B-50AF-45D0-ABC9-00C92F25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57A37-8404-4880-9DDD-91167A6B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FFF81-C96D-4E89-80F7-82A527B7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0D09D-10B5-4077-B89D-75AA86D4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4328B-DBDC-495A-A9D5-2954075B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440D-4433-417D-9C01-ECC289ED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DB907E-7218-4A6F-A7DD-356914E8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AACE7-A836-41CB-958E-A5F3634C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9D05C-7A98-4430-9C69-CF1B3489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E8359-6AB7-43BD-926B-91D2CD57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7F436-010B-4521-9B89-FB20C53E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ACF73F-910E-4C3B-891A-BA0C5EED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C4A7D-4060-4007-9F74-C09B733F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AB4B65-2363-4A9E-9869-70150DD7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0CE04D-325E-4FB6-ACEB-535A7C52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178AF-954E-4B44-A8E6-4524C8FA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1A9B-2679-4FD9-BCD9-F07DD0B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AFBE2A-0E03-4ED2-AF99-D3EF50EB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35997D-5623-4552-8A30-E4290169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E6912-AE54-4B42-B622-012CFE36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41531-AEC8-4A18-835B-69C8DB47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FF2A1-5F53-43CC-813C-BB8EFC2B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FA925-CC85-42BE-98B4-71B53F92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2FF9F4-FFB8-4A99-ACDD-C5CCA5CF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02FEF1-C528-4A13-8574-6A25DF18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5A276-0FF0-48CF-B4B0-3F7F595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76FDB-90D9-4DC1-862C-81C2EEE5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7860-CF14-4222-97B6-3936478B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4474D-32F0-4E81-A0C5-F8BF6657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6A693-9D00-42F6-900F-49B1D4AF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8F1ABE-80ED-4CE8-98A2-55AB0CB3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F1EA7-EC77-4A5F-8650-B9C09D25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7CC1A-9DAB-4A58-BD2A-85C28D60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7F04A-29FB-4878-9C39-D496E0A2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7A83FF-D3A7-4111-BD98-48AC5F8F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D3C25-D178-400A-BB02-2BA09700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C11D4-AABA-40DC-B476-E74A3EC0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4DDDB5-9011-41E9-AF1C-1C97D46F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E92-FAF6-430A-9288-059DDA54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8F32-2BD5-415C-AD87-AC8B3229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43F07-B1EB-4F9E-8051-844951D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D4529-EDBE-4395-A2D2-CDBA21EA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853645-50E0-4E4F-9091-CFE88189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B16D7C-7DDB-4979-A25A-348D2FEE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B81E3-AB01-456B-AD7B-5A69765C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CCD8B3-513B-4260-A883-EC4B8536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AEADC1-9400-49A7-9EDA-2D8DE818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511BC-DF13-4CE0-94AB-1282F967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0FECE-28A4-4AC3-BCE1-624178A8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6B19E6-F39D-4E1A-B8B7-C6BB9C5E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877E-3249-4F1F-90F3-569D0589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95430-EA3E-4C63-B6A1-C6ECDC1E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94767-D36A-43ED-B737-269FDBF7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B5F3C6-53F9-4D24-8F18-A42DE71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99DE87-90DD-4697-AD8D-64E23D38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F8997-C8C2-45AC-905C-35FDA9E2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6CAB53-1929-4863-B3FE-3E4889D8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2FF285-96CC-46B1-9B37-7A90E29A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B96022-1443-4861-B0DE-234363C4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DF82E3-00F8-479B-B2AA-41900572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367A89-0C5C-46D8-81F2-0C3C249C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C295-D20B-4454-8C79-AD2807E5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CA786E-6700-4DFA-B3BB-E1154AF5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80A35B-E502-4A7C-8BE4-9C73BD6A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A60195-20A5-48F7-B5F5-28A8A8AD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79BAB9-88EF-4A60-8CC3-3F9A91D2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54C811-8039-4DC2-9486-FBBF2D9B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29326-B845-4F2E-99DC-A19D8AA5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1A41C1-2A19-4F19-A47F-25A41830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E51AA3-C534-4D2A-96E7-0A9ED63C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645C50-A916-471D-954F-E79780B6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9465FA-2DDD-4A73-B60F-FCA0A9A2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4E01-2DF9-455A-B369-9D352D99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25E187-6A57-436F-943A-5AD4D007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4342FA-BE36-4026-95BF-525993B0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0EE3D-FE26-47FC-BF97-C9D854AA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0CECA6-642D-43DE-8B9F-C4598B37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37D7E4-63CE-4B69-9CAF-8329FAB4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34181E-7A49-4E13-B2BD-745F0685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951BA-DB7D-4272-8939-84D468BE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A2BB97-2D21-412E-AA7F-A732D4AE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6B52CD-5A20-45A9-9334-6CC6FBE4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1B0B1A-865A-4F4B-81EB-63C81725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9DDA-5211-4F6C-9019-8CD338E9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D68779-CA78-464B-AFD3-ECF9816C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8C832D-60F6-48FB-A9E5-1D2BA3BD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475289-CAA9-45BC-BCC9-792E6561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635F1-A073-42AF-B23B-C536E018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8212F8-48D3-472C-9958-FF9DD117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7955BA-7299-4005-8188-65CC5651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38615B-AF27-421E-836A-329426B0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33D0C3-D26E-43C1-8F5C-2DA52AB9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EE1A86-0E88-4484-8024-2BF9FAAC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0FA0B6-CE9D-4F62-8C72-521967B9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BB01-4559-4DC7-9B04-CF56DDEF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EABED6-F52F-4BEE-AB6F-2B392F1F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4F83B1-D4D6-423F-9C9A-C4834506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57DD91-FBD4-4EB4-92B5-DB08F8FD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6710D4-5F28-42FC-9ACA-CB9F7DB2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33DA6D-E98E-43E8-8830-EB40D438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AE964D-B24E-4653-842E-70A5B6CC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9DC526-2FA0-4752-96C9-FEEE26F5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3E3A0A-3A0A-4ABA-B3C9-ECDE1B38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26D8DB-C1B8-4606-AB32-E4DD3116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C42763-5457-4505-877F-205E547B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FC97-46C2-4D32-ADB1-9F0AE665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960DEC-0331-435E-83E2-D1F5432A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BAEDF3-20C1-4DBC-A02F-6BF934A6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096396-E297-40E9-BEF7-B3BFC642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79049E-27DC-4493-80BB-69088E3D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2584F7-22F7-4040-81FC-F9851B3A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B2897D-DFFC-487A-BCF3-0DDDF8FF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F3AE5C-DB7F-4F5C-B6DC-19BF877F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1FB2D7-E735-4733-A8E9-5C276E6B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AB8C73-918A-44C6-9F26-34C5FA34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F9E89E-5BBB-4C3F-B01B-915D27D0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66BDE-FA24-41EA-8EF7-1ACAB332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F7EBAE-32D7-463D-BC1E-481D7B15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07D778-ED43-48B2-9630-9E3C5748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30F743-632D-4F52-A5FF-49A400D0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BB3F7D-49C0-4E8E-96A6-B9ECFCD4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68E638-9B0A-446B-9BA2-EEF11124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B70B9B-A22D-4237-8D74-417C508F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05EAC0-ED57-421F-B26C-21A2E2B7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1850-D164-4485-BDC7-46D563B9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B9E2-D388-4A31-8686-77A6514B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7A3-EA06-454C-8F75-CC97F5FC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FFE6A-70EB-4743-AE8D-A316299F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8143B-3D24-44E0-A3B3-E940178F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6C1A-0C48-4EAB-8BA5-F395E1C4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2BFD2-2608-45F5-B340-13F89BD9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309A6-1E9F-4F18-8EED-FA04A35D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D1B8-7595-4D55-A88A-52700634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3960B-B613-46B0-AB98-15219E97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2FFDC-76B1-4959-85A9-25A81945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18D8-47A2-4211-87AA-2CACC1DD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DFDA0-3158-47F7-A117-4239FB84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ADC-C0B8-4A55-A49C-CE6BC42D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F47CE-2013-4ABD-93FC-73E16E3E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4FFE0-A3FB-4DC7-8EDB-220630E2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0FD9C-BE09-49D3-9065-437D6C83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7279-4684-46BB-947D-8B750EE9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1FA2-AE8B-4C43-9DE0-FBAE14BA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BEBC8-CEF4-456A-80DE-348508A2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15B5-73C2-4267-B420-9E85FB6F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DE110-1ECB-4649-B901-5D4DD191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CC6E9-37C8-4488-B2EE-C94A8606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AB04C-AC9D-465C-905E-9F842169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FDE-748F-4B18-8296-69B3EE97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9AAB5-2038-409A-8E5F-02FF9C8B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A0027-4455-48D1-9BF2-F5D91E21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4B8DB-11AD-44D4-8F0C-DD1CC89B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CFCF8-6F41-44F2-A3F7-D1983C0B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B44C1-F2F5-4359-A20E-F1B40D16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1F5A0-E00C-4683-9AEA-5CF69676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0227-9E73-48B0-9DB8-D147D3B4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AB1DD-1026-4A3B-9946-E83CA87D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50D28-A95D-43F1-8F7E-DA931AD6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51407-2FCD-4724-B604-C92DF923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E9B-40CD-4EE3-8D57-CC989DFD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766D2-B955-4FFF-84ED-407BAB5F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AF93F-D5C5-4E70-BEC6-A34D099F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6A5A7-9A7C-406A-B0D2-1E565332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C08FB-501C-4337-BEC1-9A113697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E3B77-10E3-4CDA-B656-A1900F40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74130-6A70-4120-B6CD-497CE1CF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5BA8C-7656-4BB2-AF31-A7B3D0ED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2769B-5C84-43C3-A095-C4801D34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98CB2-B94B-461D-847E-ECCECAF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70776-DF44-4268-A02D-3D181897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9CF-6CA6-4BCB-9E35-2A6EA9FF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32D95-7388-40C3-AE5A-BC99BBAC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8C7FF-CED2-4BA3-87B4-9A91412E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67B58-F61E-4EE1-8282-81500751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C7627-4170-458A-A1A3-5490DE53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00D46-8DA1-4D53-B391-5633D50B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828B5-E560-4534-ADE0-A59231CD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8EC5F-7068-439B-ACDE-76CF9E41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40B24-5478-4D98-8D40-8E8A260B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BBB93-CA0C-4B74-86CE-A25B565C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60E31-1BE5-41EC-ABDD-528F02CB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7E4-0523-4EEB-8054-EC680537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1CF6C-F849-43BE-998D-CBEE86E8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B8A2B-3184-49CD-A7B1-EEB9488D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F8F63-51EB-4A99-A534-C86A778A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C12B4-94A0-4195-92FF-E0D5BC5C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4B188-3E6A-4EED-9E5A-0FD49FBB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482E9-2C3A-4594-BF99-DF12BE68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1EC28-A02F-4F22-B3AF-EA6AE653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528CB-D8CA-4FAC-841B-626D5613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A6655-1BF3-4112-8B5D-510BC8EA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FA004-D196-4DA9-9641-72A9C2B6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10F-CA6C-44F8-9396-5EFFD7CD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41B96-8804-4569-9A36-A91108DF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7C15F-CE1A-4B06-B1F2-21F114A4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75FF2-9EEB-4AC0-9659-41CD107E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D1D57-80B3-4134-AE74-66B4F3B9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375EB-FF82-4A7A-9F82-4F7CBD18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F2DF6-545D-4DD0-94CC-AF6B1619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53CD7-FBF7-4F7A-8BA6-8645A3F4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654FA-5666-4379-B430-52BEA606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3217D-1F12-46CF-AA17-096C5FFD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5B55F-B7C5-4C90-82A8-B1BB10FA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707C-5463-432A-9E8C-4344F9E321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1FFF-7228-465D-9D9F-855FBEA45B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4BB8-D42F-4F78-8325-D877F34E61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01F0-3EFD-4BFD-85D6-0397C61BE5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BCCE-C3EF-4242-A6A8-5897F02E09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72D4-A5AE-451C-B3F4-BBC4154ADD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8D3B-2A2E-47D8-8C0A-68135391A4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F720-069C-4325-AED8-ACFD0CB0BD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1D6C-98C5-4E58-B8B5-BBEA9EBF69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9D8D-61CE-4F14-9526-CCE006602F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BB32-DB97-4ABD-9DC6-BBEF9C26EC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B333-F39C-4D6F-957F-75A981232D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82F2-5A4A-4D35-A5BF-651DE5F085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C037-ECFF-4902-9F94-2801F7F9E5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9B18-F9D6-48F2-9EBD-B0430AF8FC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BAF2-9BB1-4CFC-9C5E-3E5D96A053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4A51-9044-4A89-AA69-8E0B6292CF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EB93-CF10-4B78-B572-98E54BFBAD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11E9-3E62-42B0-9944-24D2F481A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F134-656D-4BEB-A415-B558C3C6A2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C20D-AD82-4BD6-96F1-6EA498EC93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0362-BDAD-4B63-8BE7-FCCF000CB3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6AA7-3AE8-451D-B246-D4953F4838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4364-7407-4840-9B34-4FF8135360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6FBE-58C1-4003-B7E2-9A20F85D4F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EE34-E1CC-4F89-8AF8-DA23A0ECDC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512F-42AA-42FA-91AF-FA4F938BB3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2A01-BD1F-42A9-9757-1A0DE0DEF4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DE0A-B872-4C64-B6B9-EEA9685339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83CF-A0E6-4219-B2C2-5BB577F23E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8297-4290-47AC-B69E-8B10D454D4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F73D-9ABC-4C69-AE41-D107A7C16E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4EC6-F78D-4C2E-A803-95E7A074F9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6E6C-4AE5-4092-9F59-75E1ABAEFA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03A6-6F01-4C23-ACD4-A4F1C48B16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8328-6D5A-4ADF-9E29-3F33256BFE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B9A2-CAC5-4A55-B27F-04FE89D032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B39E-F04D-4FA0-8FEB-AA9182A723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65D9-FE13-4A56-85A2-C83EBCB4F6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7405-1089-4F4C-8740-23E0993F6E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A818-80C4-4820-8EE0-B3E917DB2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E658-8EFD-459F-8002-6DBFDF1988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76320" y="2976480"/>
            <a:ext cx="89913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93600" y="1327320"/>
            <a:ext cx="8956800" cy="182556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" descr=""/>
          <p:cNvPicPr/>
          <p:nvPr/>
        </p:nvPicPr>
        <p:blipFill>
          <a:blip r:embed="rId2"/>
          <a:stretch/>
        </p:blipFill>
        <p:spPr>
          <a:xfrm>
            <a:off x="1224000" y="3444840"/>
            <a:ext cx="6696000" cy="2276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3348000" y="1728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320364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601200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608472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7"/>
          <a:stretch/>
        </p:blipFill>
        <p:spPr>
          <a:xfrm>
            <a:off x="810108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8"/>
          <a:stretch/>
        </p:blipFill>
        <p:spPr>
          <a:xfrm>
            <a:off x="8459640" y="227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9"/>
          <a:stretch/>
        </p:blipFill>
        <p:spPr>
          <a:xfrm>
            <a:off x="3419640" y="407664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10"/>
          <a:stretch/>
        </p:blipFill>
        <p:spPr>
          <a:xfrm>
            <a:off x="3276720" y="4724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11"/>
          <a:stretch/>
        </p:blipFill>
        <p:spPr>
          <a:xfrm>
            <a:off x="6372360" y="40338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12"/>
          <a:stretch/>
        </p:blipFill>
        <p:spPr>
          <a:xfrm>
            <a:off x="6659640" y="466740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1181160"/>
            <a:ext cx="8743680" cy="44956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06728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184800" y="4235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716436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156360" y="507060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452520" y="750960"/>
            <a:ext cx="8238960" cy="58482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3924360" y="1714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5997600" y="1773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694836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5983200" y="263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4989600" y="3645000"/>
            <a:ext cx="19587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4067280" y="53150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622440" y="92160"/>
            <a:ext cx="8351640" cy="66736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258920" y="1830240"/>
            <a:ext cx="30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1187280" y="2565360"/>
            <a:ext cx="30974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4859280" y="183024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4788000" y="256536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1474920" y="4854600"/>
            <a:ext cx="352872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1403280" y="558972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8"/>
          <a:stretch/>
        </p:blipFill>
        <p:spPr>
          <a:xfrm>
            <a:off x="1403280" y="632448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9"/>
          <a:stretch/>
        </p:blipFill>
        <p:spPr>
          <a:xfrm>
            <a:off x="5435640" y="481176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10"/>
          <a:stretch/>
        </p:blipFill>
        <p:spPr>
          <a:xfrm>
            <a:off x="5364000" y="5546880"/>
            <a:ext cx="352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11"/>
          <a:stretch/>
        </p:blipFill>
        <p:spPr>
          <a:xfrm>
            <a:off x="5364000" y="6281640"/>
            <a:ext cx="35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466560" y="2247840"/>
            <a:ext cx="8210880" cy="2362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86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538200" y="1362240"/>
            <a:ext cx="8067600" cy="4133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3348000" y="394812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633564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3492360" y="508464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257480" y="1581120"/>
            <a:ext cx="6629400" cy="3695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3635280" y="334152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908000" y="386064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3995640" y="4508640"/>
            <a:ext cx="360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57040" y="601560"/>
            <a:ext cx="8629920" cy="62010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403280" y="3054240"/>
            <a:ext cx="511344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2700360" y="357336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2556000" y="5300640"/>
            <a:ext cx="352872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6"/>
          <a:stretch/>
        </p:blipFill>
        <p:spPr>
          <a:xfrm>
            <a:off x="1403280" y="5848200"/>
            <a:ext cx="432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7"/>
          <a:stretch/>
        </p:blipFill>
        <p:spPr>
          <a:xfrm>
            <a:off x="2627280" y="6381720"/>
            <a:ext cx="35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271440" y="851040"/>
            <a:ext cx="8705880" cy="58957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042920" y="341316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042920" y="399096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971640" y="4552920"/>
            <a:ext cx="65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1116000" y="508320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1116000" y="566100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1042920" y="6237360"/>
            <a:ext cx="432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0:2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